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B007-2DB4-4FA0-95C7-09EA9F839B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B89-8F15-4496-8DBB-C816816A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38C-0B36-4E06-9FAF-7F835F8C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A5D-4BEF-4FB8-B2B4-4CCD45FE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D5F-35CA-4441-8B5F-48D0D3B1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04C9-3966-475E-B93A-2834642F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74A9-9126-4444-8C8A-F020E4D7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D623-A6D0-4DAB-B453-7C129CA0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E6AD-CD4A-42D2-8C2D-9A364FAA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CF20-FB5F-4D6D-A4BD-5D5CCFCA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D264-9A9A-452B-A127-7FD0E20A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FB22-2AC1-47FF-B6FD-1CC76BFC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1BF-9858-4AC4-B725-3E5591F0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55A5-01DC-4D91-BA14-91885CDC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2EF3-CAF3-4DC4-A9F1-E3150875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F693-AD09-4C54-BA5B-79D98CCF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9B25-B8E2-4ACF-86B1-853089B6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D050-43DE-45E0-A1D6-8C08758C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65B-48EE-46A6-94B0-E0F122AD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E37-E612-44A9-B3C8-86273616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148-ABFF-4257-AC97-099BCB01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A1B-9414-44E8-B6B8-77B058B7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39C-D2B9-425E-8899-1DBDA955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6F9-0FBD-4B5E-A4EF-347FBA9F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95A-6EF3-4361-8D38-9DC5B4BE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D9DB-73F6-447D-9636-3E405F2ACC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D821-48BB-4E44-B739-2E88A081D0DB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robelibrary.org/images/tterry/anim/phago053.html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y the end of the lesson you should be able to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32" name="Picture 3" descr="Blood"/>
          <p:cNvPicPr/>
          <p:nvPr/>
        </p:nvPicPr>
        <p:blipFill>
          <a:blip r:embed="rId1"/>
          <a:srcRect l="0" t="22747" r="0" b="0"/>
          <a:stretch/>
        </p:blipFill>
        <p:spPr>
          <a:xfrm>
            <a:off x="1619280" y="1413000"/>
            <a:ext cx="5832360" cy="450684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 flipV="1">
            <a:off x="684360" y="3573360"/>
            <a:ext cx="1439640" cy="28728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6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              </a:t>
            </a: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Anti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70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ll cells have surface markers called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gen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body can recognise these as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(foreign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9" name="Picture 4" descr="Bacteria covered in antigens"/>
          <p:cNvPicPr/>
          <p:nvPr/>
        </p:nvPicPr>
        <p:blipFill>
          <a:blip r:embed="rId1"/>
          <a:stretch/>
        </p:blipFill>
        <p:spPr>
          <a:xfrm>
            <a:off x="5651640" y="321300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ntigens"/>
          <p:cNvPicPr/>
          <p:nvPr/>
        </p:nvPicPr>
        <p:blipFill>
          <a:blip r:embed="rId2"/>
          <a:srcRect l="0" t="0" r="57708" b="56708"/>
          <a:stretch/>
        </p:blipFill>
        <p:spPr>
          <a:xfrm>
            <a:off x="5724360" y="907920"/>
            <a:ext cx="20894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cc"/>
                </a:solidFill>
                <a:latin typeface="Comic Sans MS"/>
              </a:rPr>
              <a:t>Specific response</a:t>
            </a:r>
            <a:endParaRPr b="0" lang="en-US" sz="4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Lymphocytes detect presence of foreign antigen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timulated to produce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pecific proteins called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435640" y="2492280"/>
          <a:ext cx="29163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492280"/>
                    <a:ext cx="2916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ntibodies combine with their specific antigen (like a lock and key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is renders the pathogen harmles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primary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1763640" y="1773360"/>
            <a:ext cx="5472360" cy="2952720"/>
            <a:chOff x="1763640" y="1773360"/>
            <a:chExt cx="5472360" cy="2952720"/>
          </a:xfrm>
        </p:grpSpPr>
        <p:pic>
          <p:nvPicPr>
            <p:cNvPr id="147" name="Picture 4" descr="antibodieaction2"/>
            <p:cNvPicPr/>
            <p:nvPr/>
          </p:nvPicPr>
          <p:blipFill>
            <a:blip r:embed="rId1"/>
            <a:stretch/>
          </p:blipFill>
          <p:spPr>
            <a:xfrm>
              <a:off x="1763640" y="1773360"/>
              <a:ext cx="5472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5"/>
            <p:cNvSpPr/>
            <p:nvPr/>
          </p:nvSpPr>
          <p:spPr>
            <a:xfrm>
              <a:off x="4050000" y="3147120"/>
              <a:ext cx="554040" cy="205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579600"/>
            <a:ext cx="800100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it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2050560"/>
            <a:ext cx="80010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 the bodies ability to resist infection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can be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natural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acquired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ological memor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after an infection is fought off some lymphocytes become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memory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cells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f same pathogen returns memory cells stimulate the produce the specific antibody very rapidly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the infection is fought off before symptoms appear =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secondary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vaccines can stimulate same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an you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First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280" y="3136680"/>
            <a:ext cx="21798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99"/>
                </a:solidFill>
                <a:latin typeface="Comic Sans MS"/>
              </a:rPr>
              <a:t>    </a:t>
            </a:r>
            <a:r>
              <a:rPr b="1" lang="en-GB" sz="2100" spc="-1" strike="noStrike" u="sng">
                <a:solidFill>
                  <a:srgbClr val="3333ff"/>
                </a:solidFill>
                <a:uFillTx/>
                <a:latin typeface="Comic Sans MS"/>
              </a:rPr>
              <a:t>skin</a:t>
            </a:r>
            <a:r>
              <a:rPr b="0" lang="en-GB" sz="2100" spc="-1" strike="noStrike">
                <a:solidFill>
                  <a:srgbClr val="3333ff"/>
                </a:solidFill>
                <a:latin typeface="Comic Sans MS"/>
              </a:rPr>
              <a:t> prevents entry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96" name="Picture 4" descr="vbodyman"/>
          <p:cNvPicPr/>
          <p:nvPr/>
        </p:nvPicPr>
        <p:blipFill>
          <a:blip r:embed="rId1"/>
          <a:stretch/>
        </p:blipFill>
        <p:spPr>
          <a:xfrm>
            <a:off x="2700360" y="1916280"/>
            <a:ext cx="385272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435640" y="119700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tear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126828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aliv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547640" y="4365720"/>
            <a:ext cx="25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tomach aci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low pH kills harmful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2708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ff"/>
                </a:solidFill>
                <a:uFillTx/>
                <a:latin typeface="Comic Sans MS"/>
              </a:rPr>
              <a:t>mucus</a:t>
            </a:r>
            <a:r>
              <a:rPr b="0" lang="en-GB" sz="2400" spc="-1" strike="noStrike">
                <a:solidFill>
                  <a:srgbClr val="3333ff"/>
                </a:solidFill>
                <a:latin typeface="Comic Sans MS"/>
              </a:rPr>
              <a:t> linings traps dirt and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96000" y="4508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“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good” gut bacteri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ut compete bad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1979640" y="2852280"/>
            <a:ext cx="1944720" cy="505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3" name="Line 12"/>
          <p:cNvSpPr/>
          <p:nvPr/>
        </p:nvSpPr>
        <p:spPr>
          <a:xfrm flipH="1" flipV="1">
            <a:off x="4571640" y="2565360"/>
            <a:ext cx="180036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4716000" y="1557360"/>
            <a:ext cx="647640" cy="647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35280" y="1916280"/>
            <a:ext cx="936720" cy="433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3348000" y="3357720"/>
            <a:ext cx="1295280" cy="1079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7" name="Line 16"/>
          <p:cNvSpPr/>
          <p:nvPr/>
        </p:nvSpPr>
        <p:spPr>
          <a:xfrm flipH="1" flipV="1">
            <a:off x="4642920" y="3573000"/>
            <a:ext cx="1081080" cy="1150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atho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disease causing micro-organism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bacteria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virus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fungi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otozoa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arasite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ion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0" name="Picture 4" descr="bacecoli"/>
          <p:cNvPicPr/>
          <p:nvPr/>
        </p:nvPicPr>
        <p:blipFill>
          <a:blip r:embed="rId1"/>
          <a:stretch/>
        </p:blipFill>
        <p:spPr>
          <a:xfrm>
            <a:off x="5651640" y="1916280"/>
            <a:ext cx="2544480" cy="183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pho_01"/>
          <p:cNvPicPr/>
          <p:nvPr/>
        </p:nvPicPr>
        <p:blipFill>
          <a:blip r:embed="rId2"/>
          <a:stretch/>
        </p:blipFill>
        <p:spPr>
          <a:xfrm>
            <a:off x="3564000" y="3068640"/>
            <a:ext cx="1619280" cy="241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30005b"/>
          <p:cNvPicPr/>
          <p:nvPr/>
        </p:nvPicPr>
        <p:blipFill>
          <a:blip r:embed="rId3"/>
          <a:srcRect l="0" t="3780" r="0" b="4725"/>
          <a:stretch/>
        </p:blipFill>
        <p:spPr>
          <a:xfrm>
            <a:off x="5796000" y="4230720"/>
            <a:ext cx="2663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Second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5986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volves white blood 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nvading pathogens are targeted by macrophage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lymphocytes produce chemicals called antibodies that target specific pathogen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5" name="Picture 4" descr="259"/>
          <p:cNvPicPr/>
          <p:nvPr/>
        </p:nvPicPr>
        <p:blipFill>
          <a:blip r:embed="rId1"/>
          <a:srcRect l="0" t="0" r="6890" b="0"/>
          <a:stretch/>
        </p:blipFill>
        <p:spPr>
          <a:xfrm>
            <a:off x="6012000" y="2276640"/>
            <a:ext cx="2447640" cy="180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ct11"/>
          <p:cNvPicPr/>
          <p:nvPr/>
        </p:nvPicPr>
        <p:blipFill>
          <a:blip r:embed="rId2"/>
          <a:stretch/>
        </p:blipFill>
        <p:spPr>
          <a:xfrm>
            <a:off x="6443640" y="4292640"/>
            <a:ext cx="213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18" name="Picture 3" descr="Blood"/>
          <p:cNvPicPr/>
          <p:nvPr/>
        </p:nvPicPr>
        <p:blipFill>
          <a:blip r:embed="rId1"/>
          <a:srcRect l="0" t="0" r="0" b="34121"/>
          <a:stretch/>
        </p:blipFill>
        <p:spPr>
          <a:xfrm>
            <a:off x="1066680" y="1752480"/>
            <a:ext cx="6264360" cy="412776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 flipH="1" flipV="1">
            <a:off x="6372360" y="2852280"/>
            <a:ext cx="2016000" cy="64764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Monocytes and macrophage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Provide a non-specific response to infection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Comic Sans MS"/>
                <a:hlinkClick r:id="rId1"/>
              </a:rPr>
              <a:t>http://www.microbelibrary.org/images/tterry/anim/phago053.htm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2" name="Picture 4" descr="Phagocytose"/>
          <p:cNvPicPr/>
          <p:nvPr/>
        </p:nvPicPr>
        <p:blipFill>
          <a:blip r:embed="rId2"/>
          <a:stretch/>
        </p:blipFill>
        <p:spPr>
          <a:xfrm>
            <a:off x="5486400" y="3429000"/>
            <a:ext cx="2482920" cy="2579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4303087"/>
          <p:cNvPicPr/>
          <p:nvPr/>
        </p:nvPicPr>
        <p:blipFill>
          <a:blip r:embed="rId3"/>
          <a:stretch/>
        </p:blipFill>
        <p:spPr>
          <a:xfrm>
            <a:off x="838080" y="3809880"/>
            <a:ext cx="32911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-4521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tages in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detects chemicals released by a foreign intruder (e.g. bacteria)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moves up the concentration gradient towards the intruder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phagocyte adheres to the foreign cell and engulfs it in a vacuole by an infolding of the cell membran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ysosome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(organelles which are rich in digestive enzymes &amp; found in the phagocytes cytoplasm) fuse with the vacuole &amp; release their contents into it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56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31240" indent="-3877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bacterium is digested by the enzymes, and the breakdown products are absorbed by the phagocyt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During infection, hundreds of phagocytes are needed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us is dead bacteria and phagocytes!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ink to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u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6800" y="1846080"/>
            <a:ext cx="39258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n accumulation of : -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phagocyt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stroyed bacteria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cell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0" name="Picture 4" descr="acne2"/>
          <p:cNvPicPr/>
          <p:nvPr/>
        </p:nvPicPr>
        <p:blipFill>
          <a:blip r:embed="rId1"/>
          <a:stretch/>
        </p:blipFill>
        <p:spPr>
          <a:xfrm>
            <a:off x="539640" y="170028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>the immune system phagocytosis</dc:description>
  <cp:keywords>the immune system phagocytosis</cp:keywords>
  <dc:language>en-US</dc:language>
  <cp:lastModifiedBy>LEGION</cp:lastModifiedBy>
  <dcterms:modified xsi:type="dcterms:W3CDTF">2015-09-18T10:32:23Z</dcterms:modified>
  <cp:revision>7</cp:revision>
  <dc:subject>the immune system phagocytosis</dc:subject>
  <dc:title>the immune system phagocytosis antibody fun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